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75F-8B20-4BCA-999B-3704E709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CEB-94F4-4C48-863B-F7FC7F12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6D4-02AE-4988-AB9E-3349E00F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A9D-A365-44F2-9B65-1E23478B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B099-E3C1-4217-A9A9-AAACCF15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87A-810F-4640-AB37-F83AF4C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04B6-15CB-4BEC-9601-8331FE6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D673-CD57-42A7-8CBA-69BA35A9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229-FE65-4DA1-A879-A00635B1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57D-400A-4ECE-BDE9-5E4593BD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E4D4-2A18-4AB6-907F-255AF07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60A-6114-4DB5-BDA2-EEB52C2A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886-9B1A-4AB2-8F70-BA2DD515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765B-5E0C-4756-897C-E350179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B42-6C7B-4A76-8874-94C6C06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3D5-A432-4F60-A208-7DEE205A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813-2AC1-431D-A59F-06954B21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718-C705-4080-95BC-40C44315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39F-5084-4421-8F13-CFC205B3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C69-EC4E-4A65-BCCA-5FF03981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CFD-D641-44BF-A32B-9146FC6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919-AFAB-43FE-B468-F148942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37A-46C2-41CD-B9C2-5CA5DD96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D69-D4B8-4311-B78A-19DF6A5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F32-7002-4635-BA7C-39666A9734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7BC-D147-4143-AD95-CB14C0D20C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orts.yahoo.com/nhl/players/3798" TargetMode="External"/><Relationship Id="rId2" Type="http://schemas.openxmlformats.org/officeDocument/2006/relationships/hyperlink" Target="http://www.whitehouse.gov/administration/president-obama" TargetMode="External"/><Relationship Id="rId3" Type="http://schemas.openxmlformats.org/officeDocument/2006/relationships/hyperlink" Target="http://en.wikipedia.org/wiki/Jack_Black" TargetMode="External"/><Relationship Id="rId4" Type="http://schemas.openxmlformats.org/officeDocument/2006/relationships/hyperlink" Target="http://en.wikipedia.org/wiki/Jack_Blac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09680" y="1523880"/>
            <a:ext cx="472464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s Gens Fam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0" y="4419720"/>
            <a:ext cx="5029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 Tyler Kiliul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Rencontrer Tuukka Ras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ukka Rask est 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 aux Pays-B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uukka habite en Massachuse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l est un gagnant, rapide, et très talentueu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l n'est pas faible; il est tr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  <a:ea typeface="Tahoma"/>
              </a:rPr>
              <a:t>è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enthousias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330720" cy="3962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Barack Oba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Barack Obama est de Hawaii, avec les parents de Kenya et Kan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Barack habite en Washington D.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Il est fort et intellig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Il n’est pas faible et stup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016440" cy="4267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Jack Blac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ob “Jack” Black est de Californ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k Black est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très talentueux et amusa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l n’est pas petit et bl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08560" y="1905120"/>
            <a:ext cx="279396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-172260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504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82880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ci pour vote atten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édit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sports.yahoo.com/nhl/players/37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whitehouse.gov/administration/president-oba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en.wikipedia.org/wiki/Jack_Bla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45:47Z</dcterms:created>
  <dc:creator>kiliulistyl</dc:creator>
  <dc:description/>
  <dc:language>en-US</dc:language>
  <cp:lastModifiedBy>kiliulistyl</cp:lastModifiedBy>
  <dcterms:modified xsi:type="dcterms:W3CDTF">2012-10-02T13:12:34Z</dcterms:modified>
  <cp:revision>10</cp:revision>
  <dc:subject/>
  <dc:title>Tyler </dc:title>
</cp:coreProperties>
</file>